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DF6-8891-4E85-8D3A-293543AB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4CC-AF9F-498E-905E-198B49F7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56639-DDBF-4C90-ABC8-29657DA0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0FEAB-E440-47CC-A613-FBB0D856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88C2B-159F-4FD1-941A-416290A6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F9CE9-3F0E-47AE-B33E-8210C8F1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E6D84-147D-4D50-B7F2-AD4FB252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5D5F5-5305-4567-80D0-956E31B4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CD7D1-21F8-4095-896C-F9BAEDE9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0F849-0F33-477D-8336-30B1FA05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94C06-8420-452D-89DE-46E64501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62F56-5D6E-4A2C-8189-9FFA8A81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7AC-D711-4138-AE20-DA645AEF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0D13C-A7D0-406E-AB07-0D4B0206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C6275-B521-4642-8A1B-2970519B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484BC-7990-4213-A78B-3CD5B27B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BC195-6937-45FE-97BC-A251DEAD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9B1A7-ADC8-48E7-B479-116724BE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778AC-78B3-44CB-B4D6-59C7F439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22195-F1BB-4EC6-8A13-B9074601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26B57-118D-434C-960B-C4E1ACE2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9FF38-B23C-4D3B-959A-50C41438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D6AA5-3BD9-4197-88DB-2AE60C13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BBD-6C8B-49A7-984C-C7C79AC6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C054E-1BBB-48D7-8E2D-59620855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C42FB-CD39-4E5E-8DC9-BCA7765E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C90DE-257D-4593-A877-31D8AB38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49D57-F787-4D2B-BE04-5319E572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22DBF-D8A0-4BFB-A406-28AF1687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55863-A8A5-4FD7-8357-4E53CD0A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D0E65-EA87-4128-815E-BF21D23B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D7FFC-087A-45A6-BD4A-9479ABE1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9A045-0413-47A0-8D54-C12357E6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E95C1-93D5-4B06-96BA-EFC9DF93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68C9-5C48-423A-836A-35A71B1A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2D905-54DB-4370-AD3D-AB7AA89C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A45BE-7DDB-4897-86EC-A622FDC3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C2C9D-34BE-464D-9D8E-5F7502F4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3EF6C-ECB3-4F96-A0EB-8FF30E28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0E2FF-F15E-4DD5-8A11-BE635972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E7648-ECB7-43B9-B9D3-36C2013A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91CA0-75B9-49E9-96A7-7A37D0E0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11099-F4C4-4E0C-81F0-8C4DA6DB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52A66-4EBF-4DBD-B7B3-ADB03054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17239-C7D9-4751-B250-DCCD092C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592D-C841-4BFE-8880-0CCEC585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3978D-FBE9-4CE6-AD19-79077173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96D63-F685-4B08-96D0-C767BC37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DC0D1-C90C-4803-B981-D19644E2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F87F8-A760-4BFE-A516-72414E35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54244-C02B-4876-85C9-B8F7EC89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3FA0A-7F1F-498A-9DCA-058C3959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EDE36-A7CF-4E49-AE50-9C3A00ED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37C956-F89A-4F3C-82A4-4B7A7CB9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B2FC6-F05B-4924-9BB4-5FE66393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85A73-8C82-4901-8AF0-C70E3949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9FBE-9BC0-472D-9FEC-BC94FF4D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50ED3-4AE0-4F2B-A67E-F0FDB73F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417C7-6ACA-4A15-9E95-D1C6FBCE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6536E-C906-4716-995A-A36D9D3F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22576-8DCD-4336-A819-8216F3D4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B846A9-9573-44D9-9BE6-4E74FC7E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F9FB3-EDFC-4AF9-BF6C-5E4B7F58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999F9-830B-4F15-B2E4-FBCA5C41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11ED2-DC5F-4CE0-9D6F-FC8FDADD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257986-E655-4EE7-B215-E70A2940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EBF105-F475-498E-AEA2-1C98FB64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6E46-0FC3-4984-8249-5563A665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8B033B-5AF2-4A93-891C-083F0353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40287-2D0A-43A6-9111-01A260C3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E50C5-26DF-4F5E-A69B-BF341D8D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8B5D4E-B8E3-459B-A22F-E790D2D3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DA3FB-1D4D-49FA-B315-40F1114D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AEEE23-8FC6-44A4-B1BD-65D2EC7B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40261A-B464-4941-BD36-37A0182B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BA6573-F6C8-4262-8FAA-DC7F0450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E071DB-3278-4E26-8F3F-6DBC23DE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E6594-FE5F-43EC-85D1-1C826537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BAD6-EF16-4D3F-BCAE-65E37EC7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8860F8-A74D-4EEB-8F38-01B581DB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86FAD7-B031-4BFB-8C5D-2C5B33CB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F401CC-742F-4DC4-9616-311C46E9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7B0A7E-CA40-4A20-A220-9D81847E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3F9704-B629-4F8D-82AF-A621AC54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60E077-6B63-45D4-A382-4163F3A4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9D5AD3-99E7-4492-8E45-05D491C7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8AE209-F2C7-4368-9A6F-8CC8E35C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55E8EB-1B3E-4B59-88BE-4C23640A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378F93-B869-4334-A029-E91D632D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50E8-EC63-4F9F-BECA-E08459A3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53408-CA6D-4F00-B535-7EC1C7A4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34BEC6-E71A-45A8-A2B0-17388D85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78579E-1A66-49EF-A931-577E4236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7B1DE8-52D8-43EA-9B77-24385085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DF4E13-0395-4650-A0ED-46694090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57A212-12DB-4037-A491-0A425484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5EC764-6C31-418A-90D8-33B3E099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FDEC5-16E9-4320-967C-606F3225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C61511-51E2-4A50-8593-2E885598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DE2D1A-EE0C-4FE7-824C-60B19D69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A9B8-7AFE-4D27-BBE9-53983656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C604FC-93C8-467D-AA82-C4EE4C83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267E29-DEC3-48E4-ACA4-6378B414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BDAE88-2FC2-4643-8A9F-C9DAE634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513A3C-9243-4750-8BFA-F923CBC3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E95FC4-FA76-4783-B94E-8C81E641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D82E33-F7F9-4B3D-B615-69D4A4F5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02E419-BB50-4FC8-8989-01B5B0AE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B324D-4BEB-4C03-9DC0-F039E983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19715D-B3F3-4C29-830A-EF185F59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B266B3-59CF-4E47-9476-36142B56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9C3-9640-4C75-A3E5-6768D04F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B82B-73F5-4F90-BECE-898F5307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F74C5B-372E-4F0C-AFD9-4A2BFB88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4A4E94-EAF2-443C-9771-EE65D477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21FC3C-28CB-4CAE-9071-2056D339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BC56C1-DED2-43E3-9608-F054E463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82455B-CB8F-484E-A126-1E9909F4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64EFD-505A-4298-82F7-6909BAF3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7BD091-A93B-448E-8FCC-6A2C1736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2C4164-D2F0-4E37-A18C-E968ADE7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E0A72E-5F43-4790-9BF6-BB7A949E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E099E4-CA8A-41E7-90D8-1894C944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D8E8-CEED-49E1-B0D5-37D7EB60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529393-2FFF-4B31-BD5E-64D96440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B56916-844E-48AC-BFF8-F1609AC5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B709E4-7059-436D-B96E-2314C437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26B57-A55C-47D2-A757-AA2A05D4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790322-2368-4B21-9D9C-9DAACA7C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49C8AF-74D9-42F5-80C0-A1A4DB8D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51D047-A72F-4629-8FE3-E7CFB498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81F24C-0961-4F31-A3FD-433E5299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1EAD20-0A95-4CFB-A6D2-DBCB5251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057FC2-EE91-428E-8B5A-C70A4ED6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A612-9B86-4D98-A2B5-B3D01CE7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F69D98-B255-468B-A89E-F318C21C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14B5DC-2AA7-4CB6-A7D1-B11155A0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2E10C0-B1D8-4EE4-842E-B9AA58DC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941F1A-EB4A-477A-85C8-E544462F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2C7E98-ADD4-44F3-A7C9-30931E49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B95CFB-CB0E-4C44-967D-C3AC3636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770D16-0C07-498B-92DE-517485EB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FD3522-83E1-4464-846F-6A67A481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ABAC90-57F6-4432-83E2-33B4C719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B72850-721A-428A-8DF9-3461A44C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52D1-B9FA-49CF-AABC-17F3678F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631F05-EE5E-4E45-AF4B-C4BEE7A0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D3CE0E-F3E2-4E33-AA4D-351F51E3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6DCB6B-427F-4123-A07A-7AA6C6D3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44FA05-F57C-42E8-AF25-BE0F69EB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1CBC63-CC7F-4E66-962C-FDDE4DF5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D86A1F-039F-4C4E-8F88-28CD078B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2C9D14-D74D-4106-8F2D-A69D8836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1E58CF-EBEC-454B-8EA6-F00B73E3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C20C76-55A9-4E1C-B9FE-822E1260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3E0F47-20D6-4D33-AED0-5C459451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EB97-8CE8-4713-B54B-F00510A6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176C07-813A-4A29-ABB4-E85F4473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3C32FF-9D00-4C4C-8E82-B2AB6D72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F01A07-A4C2-4C50-9F81-5CD011FE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30BFEA-9CEB-430D-BE4D-70413160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1DD951-E24E-4F5D-891C-9A50DE6F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6C16EB-80E2-4A1B-A6BB-E7E62B93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C0275E-D5BD-4D27-8F29-AB47C987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F07D49-E767-43CD-A793-5A8D3770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FA477D-44B5-4A82-87E2-C4190ECA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1B8376-799E-4410-B8F1-572942B1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6A5DF-73CD-4107-8865-38AD7230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9B9B57-059A-4060-B381-472194A8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795898-7D48-4BE0-9811-DFC145B4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4F8069-84AB-4513-B633-E31E5CCF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3D7C2-4159-4FB9-80D7-0D6D53C7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431A4-51F5-448A-A706-C353E801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B81FA-20A6-4074-B316-3CD8FA08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42354-BF07-4C6D-879B-B8F9CFAE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0B6-72C0-481A-824F-0ACF795F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C559E-6F5F-4C18-87FF-472ADEBD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13770-8EF4-4AC1-BF10-F6708739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E58ED-85FA-42CE-9029-EE6F09EB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786EF-C32B-4CD8-9DA7-F58F4775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F7409-0F95-40DA-AAB9-AB1D27A7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B0DA9-A771-4581-B7D2-E6887715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8F703-D91B-48F6-91B0-245F931D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E36B3-ABDC-405D-817C-CACBAFDF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75A20-D13C-4CCA-B3C5-D070F84C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88396-6E62-4001-96C9-82E1BCEA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DAE-D3B7-45DB-97FA-858FBD5C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C4085-D17A-4848-B85A-6DC0EBF9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FD4D9-0636-46B8-B2C1-41BB9A34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2F768-5D00-46A4-9CEF-0FFA96C4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47803-1FD0-4D1A-BDEA-66383E54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414D1-238A-4513-BFE3-9BEFCD40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59E71-1753-42FE-ADA6-F08DD6D8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3B4E0-78F4-40B1-BBF9-1CFB55BF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BFA4C-1568-4976-A393-EBE53471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89581-F419-485D-99F5-F31CE7D9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EB2E4-E0EA-4336-865E-A22E3E20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625-83B7-44EC-B907-29ED2EA4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1F364-9239-4C0C-A2C9-64FCC3B6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3CDED-5500-4962-9988-6A1F3F52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E9190-901F-4B43-8530-94FBB105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DAB48-9D2B-43DD-95CC-D2D9779A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98E93-22C1-492B-BCF5-85BDC68C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3A165-C150-427B-954F-DFA5FDFA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7472F-1411-47FC-B2E7-83408F78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277FE-5872-4BCA-B66F-B0781CE2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5ECF7-1C2B-4BB4-9AB4-C01C3E82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CDDA8-6416-457A-891E-9D529E20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8B6-ACE5-4C0E-8B6A-F7A1E9D6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EEBAE-9EE8-4309-B629-21EDC628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073EF-9DAD-468A-95B1-44602983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FD288-CE01-4BF2-AC4D-FD1EE5DF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2E273-9973-4691-B0F3-CB541D32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9FA94-A965-4D53-A72B-6D7454F1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DEEF9-159B-418F-AB5B-C7574178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89FB0-0757-46E6-8D04-09BD9254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FABC4-0FCF-4CA6-A6E5-55167673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255E1-6929-474D-9F1C-5E35EAF2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89030-91CA-4254-B17E-CF4D543A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B09-3667-47E3-8BCC-C971D20A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E8D0F-A3E3-4D5D-B728-AD2E0C0F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CBECF-30BA-4AC3-B24B-DA998A2A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E32BE-2B32-4D48-9C67-C11A1F14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BB78F-DB49-4BA6-A9AD-5CB3D858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3BB8A-BE42-4F11-8861-845DC7AC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4FD9A-AF87-4072-8494-5624C30B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DE9E1-7264-4A07-8254-81262D60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5CE3B-05E8-4357-8FC5-1759B93C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CF9CE-43CA-42CF-A7D8-8EC95174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030EA-9CBA-4F12-93EC-297723A0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DA0-64B5-4E11-9380-1295C1F8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29F90-FA42-4690-93CE-2C75DB63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6616B-5BEC-48F8-9222-D53D4B14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A228E-135F-492E-844C-61DD6432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B230E-45D9-4645-B23D-F1C1640E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5238B-D1CD-4EE2-B801-3D20C107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FF973-8084-4619-B40A-99B30187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CA26F-D9A6-4C14-92AE-0DFBF920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421A8-4550-408B-85AF-7A942B5D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AFBBC-C4A6-46C3-BBF9-155CBF21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8390A-819C-4033-9CF5-958E22CB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761-BF6E-4B96-BBCC-7BBD44BD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878CB-DC14-4AD3-92B0-A472DD4E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B1977-004D-470D-B838-339A776A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B90E8-57FB-438B-AE9F-626422BF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70EFD-8995-4922-A192-CE2E4EF1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33F6D-2E07-46FD-A96F-E9CBFF7E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A24DA-39AC-41ED-83E7-DE3B2B5B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CE630-1467-47EE-B2D1-2E60A382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8BC97-0101-4192-B0F9-5D3D4FF4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09FA6-27EF-468C-B15B-BBDDF01F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36040-836D-4CB8-873C-EE8F81D4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4797-A2F6-4C9C-9EA5-C75E534353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484B-12C5-4003-88AC-23F35040BD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7885-DF9A-4AD0-9A18-F6570D0C51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BD3B-6257-41BD-96E6-C789DC559A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5638-09F2-4516-89A6-ED69F378BC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08F1-8013-4EC1-B25B-21777AFF6D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A421-AF29-4421-9085-DBB970F207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B97A-DDFC-47D1-8FC0-92D9C20F34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1488-9DFC-47C6-9947-8C95550CC9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DF37-1A8B-4351-916F-3D7F9C1361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74B9-A35C-4E6E-9FBF-36EA62ACBF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D608-9932-4D09-BE0C-69DEBE1F5C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D777-3A09-408C-8A71-368CECFCDD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DBFD-547C-4784-909F-05DA3B701E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E4DD-459D-4692-A2E4-DD11F317A2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A5BC-ADB4-422F-94F7-DF133AB3EE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412A-5A4C-4399-A16C-7652F40318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9E3A-148F-4660-9BBE-9CDD14623E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76E0-09E4-4E5E-8F66-43939AC723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7FA3-C5CA-47ED-8888-CFA95E9B0A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BA65-AC63-42C7-8BCE-B97430B98C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A090-8E5D-48C6-AE69-C856239B47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219A-446A-44C8-8379-A6DC118295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3438-D28A-40A4-A574-9A9B07EC24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123C-588A-426C-937E-06B9FDB71B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1537-9E1D-46FD-B2C4-398AB517E2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8DC5-101B-49FC-874C-323A5D0160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C017-64A6-4576-9F5A-38A9B21C47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84CA-6057-4F3C-8FD3-1BC85E9FF0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0C0F-D537-4E35-8997-02FF4CA504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3BBD-033A-49F7-848D-50AE15B0F5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6BA1-34DF-412B-879E-6CF4B5FB8F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C21D-83CA-4EB7-8C12-A584FF6797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4A8A-C5D9-4FFF-8487-04DADCAA28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B8BA-8A14-49D7-8ABA-7E755323F0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71D8-C18B-45E4-BC53-90F33AA41E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6440-B73E-4FDA-B58B-F85617B314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DAE8-DBFD-4D48-BBDE-1A3813A5AF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ADDA-7D95-4BD7-90B1-886FC552D9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BAE5-D273-411F-894E-1E7B98B258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380960" y="2909880"/>
            <a:ext cx="63820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71440" y="824040"/>
            <a:ext cx="8601120" cy="52099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8028000" y="4624560"/>
            <a:ext cx="5032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59410" descr=""/>
          <p:cNvPicPr/>
          <p:nvPr/>
        </p:nvPicPr>
        <p:blipFill>
          <a:blip r:embed="rId1"/>
          <a:stretch/>
        </p:blipFill>
        <p:spPr>
          <a:xfrm>
            <a:off x="252360" y="133200"/>
            <a:ext cx="8639280" cy="65916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7956720" y="4221000"/>
            <a:ext cx="5029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58373" descr=""/>
          <p:cNvPicPr/>
          <p:nvPr/>
        </p:nvPicPr>
        <p:blipFill>
          <a:blip r:embed="rId1"/>
          <a:stretch/>
        </p:blipFill>
        <p:spPr>
          <a:xfrm>
            <a:off x="281160" y="115920"/>
            <a:ext cx="7891200" cy="65865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7380360" y="1052640"/>
            <a:ext cx="5032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7352" descr=""/>
          <p:cNvPicPr/>
          <p:nvPr/>
        </p:nvPicPr>
        <p:blipFill>
          <a:blip r:embed="rId1"/>
          <a:stretch/>
        </p:blipFill>
        <p:spPr>
          <a:xfrm>
            <a:off x="250920" y="795240"/>
            <a:ext cx="8610480" cy="90504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57353" descr=""/>
          <p:cNvPicPr/>
          <p:nvPr/>
        </p:nvPicPr>
        <p:blipFill>
          <a:blip r:embed="rId2"/>
          <a:stretch/>
        </p:blipFill>
        <p:spPr>
          <a:xfrm>
            <a:off x="695160" y="1844640"/>
            <a:ext cx="8124840" cy="45626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7956720" y="2852640"/>
            <a:ext cx="5029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56324" descr=""/>
          <p:cNvPicPr/>
          <p:nvPr/>
        </p:nvPicPr>
        <p:blipFill>
          <a:blip r:embed="rId1"/>
          <a:stretch/>
        </p:blipFill>
        <p:spPr>
          <a:xfrm>
            <a:off x="485640" y="2162160"/>
            <a:ext cx="8172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55300" descr=""/>
          <p:cNvPicPr/>
          <p:nvPr/>
        </p:nvPicPr>
        <p:blipFill>
          <a:blip r:embed="rId1"/>
          <a:stretch/>
        </p:blipFill>
        <p:spPr>
          <a:xfrm>
            <a:off x="209520" y="582480"/>
            <a:ext cx="8724960" cy="60865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503280" cy="4428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6948360" y="2665440"/>
            <a:ext cx="7192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54276" descr=""/>
          <p:cNvPicPr/>
          <p:nvPr/>
        </p:nvPicPr>
        <p:blipFill>
          <a:blip r:embed="rId1"/>
          <a:stretch/>
        </p:blipFill>
        <p:spPr>
          <a:xfrm>
            <a:off x="247680" y="843120"/>
            <a:ext cx="8648640" cy="5171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863640" cy="4428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3276720" y="2363760"/>
            <a:ext cx="8636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2231" descr=""/>
          <p:cNvPicPr/>
          <p:nvPr/>
        </p:nvPicPr>
        <p:blipFill>
          <a:blip r:embed="rId1"/>
          <a:stretch/>
        </p:blipFill>
        <p:spPr>
          <a:xfrm>
            <a:off x="271440" y="785880"/>
            <a:ext cx="8601120" cy="52862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403280" y="2852640"/>
            <a:ext cx="503280" cy="4431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6516720" y="2838600"/>
            <a:ext cx="5032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3:05:4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